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90B-9C84-442C-87BA-B0BEFFAE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27F-EE36-4999-946D-36D48E9F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4A3-4CB5-47E8-A053-3E02F23A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7EC-7B47-453B-BE7A-536AB366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6616-0D21-4998-8B89-0DB13A4A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62A9-1E0A-43C3-92B8-390E99D3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0BBE-B3EE-42CB-9F58-B59F473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004C-F866-4512-B511-0B1F6C0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FCBC-E592-47CF-AAF2-CADDC5DA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C5E7-A9F3-4672-ABA5-870FB52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BFC5-14D9-4E08-8E63-D8A0ED9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C87-2FE9-420A-A973-798B24F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028-16ED-41D9-BA2E-6C4897C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D0F-40E0-467D-ABBD-3130D21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9135-8C28-44CA-9F3D-0AC8CD1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EA70-1760-4FEC-94A3-E0075655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462-B87A-44FA-8747-0E44A355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B88-C4F0-4617-AA30-19D831B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12F-4DEE-439B-9FFB-23BC581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9A4-7E49-4C7B-AC37-FF903ED3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65A-E509-42D7-817D-0F92C0A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E04-EBB6-42EE-99B4-CA79305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D58-5B93-43C1-AAA7-E32A3AF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E1D-A384-4DA5-BDFF-0140CB93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88F-007B-4589-8E35-551E52CD0D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BC01-1235-4494-9DFA-9DCDC5D4E8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en/b/ba/Flag_of_Germany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upload.wikimedia.org/wikipedia/en/a/a4/Flag_of_the_United_States.sv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iegel.de/international/business/0,1518,822167-2,00.html" TargetMode="External"/><Relationship Id="rId2" Type="http://schemas.openxmlformats.org/officeDocument/2006/relationships/hyperlink" Target="http://www.fas.org/sgp/crs/row/R40961.pdf" TargetMode="External"/><Relationship Id="rId3" Type="http://schemas.openxmlformats.org/officeDocument/2006/relationships/hyperlink" Target="http://articles.latimes.com/2012/jan/22/business/la-fi-germany-middle-class-20120122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google.com/imgres?imgurl=http://cuthulan.files.wordpress.com/2011/04/doing-business-in-china-for-dummies.jpg%3Fw%3D450&amp;imgrefurl=http://cuthulan.wordpress.com/2011/04/20/bonuses-for-dummies-or-the-bonus-myth/&amp;usg=__kXPLqvGo1XvFtnpvx7PK_MvNGtI=&amp;h=300&amp;w=300&amp;sz=28&amp;hl=en&amp;start=68&amp;zoom=1&amp;tbnid=xXca1Yrb28-PtM:&amp;tbnh=116&amp;tbnw=116&amp;ei=ucdxT6bBM8q4twfw8tTCDw&amp;prev=/search%3Fq%3DGerman-american%2Beconomy%26start%3D63%26hl%3Den%26safe%3Dactive%26sa%3DN%26rlz%3D1T4ADSA_enUS434US446%26gbv%3D2%26tbm%3Disch&amp;itb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com/imgres?imgurl=http://economictimes.indiatimes.com/photo/11069112.cms&amp;imgrefurl=http://articles.economictimes.indiatimes.com/2011-12-11/news/30504683_1_euro-crisis-angela-merkel-long-term&amp;usg=__IId_GF8B8WVW10s6Z5Semo2v9Gw=&amp;h=300&amp;w=400&amp;sz=13&amp;hl=en&amp;start=2&amp;zoom=1&amp;tbnid=Kanbzvdj0DLUNM:&amp;tbnh=93&amp;tbnw=124&amp;ei=dMZxT5-SF8rEtweB6ZHKDw&amp;prev=/search%3Fq%3DGerman-american%2Beconomy%26hl%3Den%26safe%3Dactive%26rlz%3D1T4ADSA_enUS434US446%26gbv%3D2%26tbm%3Disch&amp;itbs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File:Flag of German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File:Flag of the United States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3808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c2f"/>
                </a:solidFill>
                <a:latin typeface="Arial"/>
              </a:rPr>
              <a:t>German/American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209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learning from the German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814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Brian B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0-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urce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cc2f"/>
                </a:solidFill>
                <a:uFillTx/>
                <a:latin typeface="Tahoma"/>
                <a:hlinkClick r:id="rId1"/>
              </a:rPr>
              <a:t>http://www.spiegel.de/international/business/0,1518,822167-2,0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cc2f"/>
                </a:solidFill>
                <a:uFillTx/>
                <a:latin typeface="Tahoma"/>
                <a:hlinkClick r:id="rId2"/>
              </a:rPr>
              <a:t>http://www.fas.org/sgp/crs/row/R40961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cc2f"/>
                </a:solidFill>
                <a:uFillTx/>
                <a:latin typeface="Tahoma"/>
                <a:hlinkClick r:id="rId3"/>
              </a:rPr>
              <a:t>http://articles.latimes.com/2012/jan/22/business/la-fi-germany-middle-class-201201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001000" cy="435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ulture Photo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atistic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y is beating the U.S. in nearly all levels of economic develop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Graphic: German and US Vital Statistics"/>
          <p:cNvPicPr/>
          <p:nvPr/>
        </p:nvPicPr>
        <p:blipFill>
          <a:blip r:embed="rId2"/>
          <a:stretch/>
        </p:blipFill>
        <p:spPr>
          <a:xfrm>
            <a:off x="1143000" y="198108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atistics (Cont.)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44956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erica loses approximately 200,000 jobs each year, leaving them with a curr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many boasts a shocking trade surplus of the equivalent of $158 billion, compared to the U.S. deficit of nearly $600 bill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1330031028687"/>
          <p:cNvPicPr/>
          <p:nvPr/>
        </p:nvPicPr>
        <p:blipFill>
          <a:blip r:embed="rId1"/>
          <a:stretch/>
        </p:blipFill>
        <p:spPr>
          <a:xfrm>
            <a:off x="1905120" y="1981080"/>
            <a:ext cx="586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German Model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es primarily upon exporting goods to the ever growing Chinese compan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focus on small business, and German-made products allows their economy to be self suffici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76600" y="3357720"/>
            <a:ext cx="190800" cy="142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76600" y="3357720"/>
            <a:ext cx="190800" cy="142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German Model (Cont.)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rman idea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urzarbe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companies to hold onto skilled workers in times of economic inst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dea makes the company suffer in short term profit, but allows them to keep skilled labor to continue investing for the fu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U.S. Model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, only 9% of Americans work in factories, preferring instead to import produ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ss of jobs to foreign workers has led to an increase in unemployment (currently 8%), and thus a weaker econom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320" y="4571640"/>
            <a:ext cx="75438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5181480"/>
            <a:ext cx="259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ow the U.S. is Adapting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.S. in the long run has done very little to adapt, but think tanks have been created to look into future poli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.S. has begun looking into government and state support for research and development of new production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Question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hom does Germany focus its expor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U.S. ahead, or behind Germany in foreign tr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nswer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3:58Z</dcterms:created>
  <dc:creator>SCSadmin</dc:creator>
  <dc:description/>
  <dc:language>en-US</dc:language>
  <cp:lastModifiedBy>SCSadmin</cp:lastModifiedBy>
  <dcterms:modified xsi:type="dcterms:W3CDTF">2012-03-28T13:37:12Z</dcterms:modified>
  <cp:revision>9</cp:revision>
  <dc:subject/>
  <dc:title>Slide 1</dc:title>
</cp:coreProperties>
</file>